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1FAE-E9AF-4C0D-8A09-01A2623D290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150B-0B29-41E9-99E0-09D163BC1A5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8E46-C700-4EDE-8F58-F7787F31373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631E-ED7A-482D-B48F-6A3EA52209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31CB-E2F9-4D2E-98BC-1533042441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5F05-5BCD-406D-97C3-ABE19DE81A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5629-47CC-4166-84C6-AFBEA126707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DD70-7278-4780-A2B8-E9EC9B13AF3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FD9F-ED74-49AA-9F50-461A0827956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E5DD-CF1D-42E1-8592-25710E1842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DF49-983D-434C-8C9F-CEEE1E73179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07EF-4009-4D9D-B95D-455EA3DC4C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2AD4-F07A-42B1-AED8-99CB949A571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E35E-13C7-4047-9EB0-8251E418F5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C1FB-BB24-4A22-8438-E7144854756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CBAFF-7F95-429D-A77B-436C5CBE7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67B48-B4F1-42F8-BAA9-E9DC50159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2B14B-8641-4685-BB7C-7E3540EE5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7F589-41DA-413A-A9E0-60CFB9218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ECF39-718D-4FD9-B7EB-56E33A10F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07D4A-950D-48EA-AF15-2FE69E3B3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19302-0DA0-4305-AF76-FE01F60A7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1533D-908C-4596-B442-9D21A36F7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1377E-901E-4D62-8F97-FA2A04337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1EEEF-B91F-48EB-BECB-AF1A2E3A6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5AC7E-7C4B-43EA-8552-70525CF76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15429-C32E-4FF4-ACBF-C5A776B7C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ED23-F7B1-44F7-AEC7-627FE2ECE67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4640"/>
            <a:ext cx="5543640" cy="609300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ommunicate by Twitte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9T20:48:07Z</dcterms:modified>
  <cp:revision>27</cp:revision>
  <dc:subject/>
  <dc:title>People who change the world</dc:title>
</cp:coreProperties>
</file>